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39.png" ContentType="image/png"/>
  <Override PartName="/ppt/media/image12.jpeg" ContentType="image/jpeg"/>
  <Override PartName="/ppt/media/image13.png" ContentType="image/png"/>
  <Override PartName="/ppt/media/image37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BA31-A9AC-410A-9CD3-B8915C80E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2FCE-9F9D-46E8-8B7A-9D3C69997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B16E-9F25-4CBA-B8B5-18BC07CFE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663C-2A09-4E43-9121-008D41DE1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FC04-C46C-44F4-95AB-606F63857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6F26-1DBF-4ABE-BA5B-D822FC48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3E9E-B841-4432-90A9-3DF50A970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8D74-433E-4DC4-9FB5-CD08FE51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776B-0344-4A30-BD24-292FCE8F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A7C0-4AFF-441D-9EDF-653B05A7C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77FD-330D-4D21-A48F-2D23926BF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F01D-CD5A-4573-AEB1-2A07AF598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8F9D-6105-48E9-AE5B-3DC35CAD1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B8B4-9AE2-41E7-A733-3017A26E3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E317-E035-46D7-8A19-63C6368DB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11EC-DE5A-49CB-AF94-604775E53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84C4-BD37-4B8F-AFF3-E58733ACF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A5E8-3CF7-4AC7-8920-68386028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7D58-4B59-4403-A809-97E749886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98B9-5223-494E-9DF2-8F09128B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88E6-37BE-4015-9A26-B58DB5DD0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8380-8178-415E-B455-AB5548C98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9FF2-28A9-4CD2-854D-191951799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B703-63B1-4910-A1E1-37AAFA491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4988-D729-40BB-8BCD-1E58B547F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389-12AA-4005-8887-8C1855BF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341-0128-4E28-913B-3F67B5FE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8091D-95D3-4BA3-8B16-C73A755D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9E267-656A-47FC-BBC1-C9FD5244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7C722-64FB-4593-894B-62F87F5B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AFB03-C746-4FC3-9E49-B800145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16245-08A1-4898-9CAC-B0D66918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E7071-4FD8-43B0-AB62-98120EA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68EC4-9387-4713-A609-9584D669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A5EC5-8A39-48BD-B425-DC9C7FF6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4399E-A300-4214-B8D7-49BAABBE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AAD31-FC70-4BA3-A86C-E59DE224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E61-618B-4067-A4FD-4E90396B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9855A-2266-4505-9138-87A4760D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08614-F560-4C0F-A121-84F41EEC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3CEEA-15D2-4835-B0A5-DAA3C9BA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D2B12-1322-47B1-B786-1F124BC9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380CA-E925-45AF-AFB8-9351D5FD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97359-27CF-444A-944F-0B2A169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5A877-4546-4BD9-A4B1-C16CBD7F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16CA7-B063-46BF-83DC-22EBD13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325CA-5524-433E-8712-069CFE99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0010E-908B-481D-8232-AA5F692C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BC4-A86D-4569-A9AD-DA4CD45B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9A68B-6FB5-4704-AA08-FBDDF6CF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EA480-4ECB-4892-9B1D-48CB9750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B38F8-FA84-4276-B2C4-8E5CC319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E8246-8A04-486C-861F-F9F6093A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7CEBB-199E-4E82-A57A-13DEF6E8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BA763-7F30-41E8-B0D7-8B9D53B2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157E4-0E24-4D88-A95D-FC061981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0DA33-C67A-4576-800F-678F68F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58F88-9123-4AA9-AD7B-EFF511E7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159E9-FD5E-4BED-AC45-4382266D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780-2C03-47C9-BF5E-BFE85037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C208C-9EF9-43C5-B70D-B21266DA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85B1E-4618-43A7-9BB4-EBCDCB3E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59E4F-988C-454E-942B-4F06445D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16FCC-1B6C-416D-84D7-9F459B9D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494F2-9D51-4015-A9BD-62C9EF57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DDBF3-473B-4E00-84D9-BA709BA6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EBBCE-7F98-4AC4-9DF8-1AC31806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EB03B-2F7E-47E8-BD7D-F9107F30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E4A3C-28EC-44CB-B184-3BC3DCBB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BEE59-6D91-46BD-9F36-3FA06AB9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AB8C-CFA4-4526-8C2D-4D77E514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F5EB3-71D1-40CB-8B73-7527FC82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9F759-06F8-412B-BC9E-F2C429DA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9564B-0AAA-411E-A389-F9C309E5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2C3A6-7150-4AE1-B721-B04E0B4B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620EE-3060-4B9E-8EE8-F4BDC76F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74A9C-C9F1-4EB2-A0DD-75865E2F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69C99-34BB-42B1-AE1D-9BF9D666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B936A-DE43-4AF4-9A45-9FC70D5E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84808-AEB4-4757-83D4-A8F7838E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1F84E-0398-40C9-9474-A1DDF4A6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5DC7-1116-421C-8CA3-0EC12A55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3CBBD-60D4-4EF7-B999-481E5FA1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7B420-F29F-47F7-8556-4E4A9AAA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F8E36-BC9D-4789-B4E2-3EB6982E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256B1-B21F-4DFA-90D7-2A9B325F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898CF-0C5F-4F8E-B966-0217EB24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90879-1CAF-4629-8652-48366CEB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A6A31-2A1E-4DA7-86BD-FB8B4242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DE39C-2B49-4244-9D3E-26F707A3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1BA23-68CE-4436-8D8C-466B12E8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972DB-877B-466E-B4FC-BFDE9BF2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3381-8381-4E76-96B9-73387127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5D9AF-170F-4F2D-9AFE-FCE0768C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A536C-EDC9-4FBA-938C-FCE1E9A2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76F3A-7F88-4D77-BE59-F6B08B0A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67F86-7C45-4E4C-B164-94BB47D3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8E74B-025F-420D-A35E-A6C4346E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71507-13EA-4706-8F90-BC018BE7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99A45-0C8D-44FE-9D99-1A423556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DC584-CACA-4CF3-BBBE-FC223DCE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4855B-391D-401B-B1AE-263DE5D5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12AE-3E11-42B1-B097-1B4AB40A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245A-C804-4346-8536-4A6B5F59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2A5E-1BFA-40F0-B0E2-D770272A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4B8-E6A9-4EAD-A7C1-08AED14C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3475-7491-4A9A-9B9F-3AACC509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1BFC-ED50-49C1-B16D-92D5DF4B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3183-45AF-4638-B216-84611347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85FA-1299-4FEA-B20D-D33E9923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32B8-5763-4395-9B12-C366CA21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4D2C-BB78-418F-BB03-C2902E4B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4AF2-58D9-4C6C-B39A-773E779F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5350-B1C1-4CB0-BBF5-40A6812E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205A-1BD9-48CF-BD4B-61F1AA29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65EC-D2E9-41D3-80FF-924995C3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1C7-5AB1-460F-A1B1-B37F3550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5BF5-DD6F-446F-9CC1-7C2C47B7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BB46-DFF3-4B28-806D-6B1B2577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B44C-D794-46D0-B5D5-CD7A56CB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4ED71-2AF2-4C99-8E3C-FBF34010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0CFA-EF2A-40B4-ACF9-0CC50017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8AE2-51AC-4E4C-B15D-6AB18A11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E84C-6078-4ACF-B63B-D9CB68D1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26BF-017D-4197-A283-6AD824BB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3FCF-9F21-4447-9D1C-88A64955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849D-E54D-42C4-99AE-F4AC0C94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E06-AAA4-4AA2-BA2B-35378B3A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0680-9EF0-4B6C-9F4D-49119E13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7E3D-8E2D-422E-94E1-A5ADFCF0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17081-12A5-42EA-AF5A-3BDDA4E4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F7DCC-DCB7-4EBD-929F-E76A1822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B161-835A-467F-9DDF-809806BA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CBCB5-C75B-4A16-B3AC-F2B41693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9322-192A-4606-A34E-A775AF74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D8BD2-1FC2-4470-A2F2-DB5C53A2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5F638-D7FA-4D07-84E8-BEF6B67B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3D67F-FD06-465D-880C-A0C41288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BA6-6474-4622-A8B1-DC50F113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AA5E8-D5FD-4953-92C1-02D6860A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BEE19-F99F-42EE-9A04-932C4052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CB00-9573-45D0-A408-B5134845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65F52-E172-410D-851F-101491EF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0D6F4-EFA2-4495-B99F-2BF02C80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F8095-0C73-4CE3-B35E-DF536138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88F32-B66D-4A92-984C-BD886BF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8219-1A7B-45F6-B493-8D397A36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031D7-60CB-41A2-9983-636B8A1A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1006B-CF37-4F08-BACF-B86ABDC0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31E-2D5D-4200-9571-C800D735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A2DB3-9D9C-43B4-A960-E3D491D9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C71CC-10DA-446D-9505-AA961E21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0E82-FDF4-4079-9B83-5030523A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04B6C-48D3-4AB9-AB65-30436FF5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37CA0-9243-4891-AF3E-A227585F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1A1D3-E4EC-4271-BD03-75C09069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7E2EC-B331-4858-AB64-FDCBAF15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9357E-17E4-4E7D-B4AC-1878D123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70660-FB67-43BB-B5E1-66C73488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7B95-A509-430C-9525-4DE7C43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D2D-4185-4699-B2F1-4BA3227A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028EE-5544-480D-A412-6E18CAAA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82668-B811-4D41-B78F-81FB8485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E2B1A-0BA2-4A03-AD4D-1C8E8EEF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8D108-9297-422E-A509-B6E1DE8E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7A027-7C29-4013-A1DA-C9F106B7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6F31D-0EAA-442F-ABE4-9E3F1322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2A84-4EFE-41DC-9A9D-3B1ED0C8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444D0-030C-414A-9C97-4AD239E1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8216-08EE-4222-8035-DA5B5B76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728D-E8CF-4DB0-BEC6-078058DA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B89-682D-4C42-96DE-CA36474E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AC59C-0081-4BE6-AF96-1C546D68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27973-3BE7-45AB-AD01-4299B4C9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140F4-8BD0-4AC3-BAD2-F672C63A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AF453-118D-4A08-9A7E-AB8B4FD7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81417-CD26-4272-92D0-6B1ADAF0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9772B-73D0-4F12-857E-2A3BEFF9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3BDE8-737C-4A82-9EBA-6BB0CBB7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18605-E277-4253-98D6-ECE32FD4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91763-9FFA-4482-A5D0-EA77157E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DBB4B-BFC0-4A7D-8334-1B95E74F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D3D-264F-495C-A730-982A263D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7E2D5-00FC-4815-84C2-16C1DE2C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7D125-0DC9-41CD-A0F4-FE3B22BE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37E57-553A-456A-8FEC-77515F4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7A7C5-1539-4296-979B-00CE5655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0E986-4884-49FB-BCCB-6ECAD318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1D141-F28E-4720-8732-DA94D849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8AD5D-CADA-4DD2-8E93-6117A064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0BB05-9CB7-4E0E-A47D-77B057FD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6A9CD-53C0-4030-BB71-5EC33F91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EA051-8E60-4468-A64D-0AD8BF56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0380-ACD8-4240-BBC2-861F89B33E4D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928C-F0EB-45EE-8497-714CE6A27A1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271E-1903-4B16-900D-50F89463BAD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6181-93DB-41A4-BE2E-717B32280F0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E29D-526E-4A4E-825A-C317EE62778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B71E-17CC-4B6A-A37C-B13A8C0BC60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41A3-A61E-4FA1-B238-CD79E4F9CCD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615B-4C5B-44CB-8568-AFA578CBA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026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24" name="AutoShape 1027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02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029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30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031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BB56-E257-46A7-8E25-45F36C735BD1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DD20-982A-49EC-9EE1-09453138EF0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468F-05D0-44C5-9851-BBD2CFABF89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15235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7813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C307-EA23-41E6-8E72-77228A29100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1030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296" name="AutoShape 1031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032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33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34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35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332C-83D4-41BC-A662-6A0CE005A940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15235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7813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AED5-574B-4A34-9250-CF82B4B303C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s://www.google.com/url?sa=i&amp;rct=j&amp;q=&amp;esrc=s&amp;frm=1&amp;source=images&amp;cd=&amp;cad=rja&amp;uact=8&amp;ved=0CAcQjRw&amp;url=https%3A%2F%2Fwww.crowdedcomics.com%2Fnode%2F5682&amp;ei=X449VfjyE5PpgwTV-oGIDg&amp;bvm=bv.91665533,d.eXY&amp;psig=AFQjCNEuQJjh2oM_L5OlaXZQllpX0H4Rig&amp;ust=1430183880169965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uact=8&amp;ved=0CAcQjRw&amp;url=http%3A%2F%2Fwww.allposters.com%2F-sp%2FShakespeare-Big-Willy-Funny-Poster-Posters_i9843569_.htm&amp;ei=Z6I7VbHEPIWlNsm2gZAH&amp;bvm=bv.91665533,d.eXY&amp;psig=AFQjCNE0QVdnGaQ_dbuUR8REomH9RYcEUw&amp;ust=1430057850656729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s://www.google.com/url?sa=i&amp;rct=j&amp;q=&amp;esrc=s&amp;frm=1&amp;source=images&amp;cd=&amp;cad=rja&amp;uact=8&amp;ved=0CAcQjRw&amp;url=https%3A%2F%2Fsummereng4u.wordpress.com%2F2011%2F07%2F20%2Fking-lear-twitter-assignment%2F&amp;ei=p6I7Vb-9G8aegwStnIHwDg&amp;bvm=bv.91665533,d.eXY&amp;psig=AFQjCNH7kTBTYfUYjUq0dlbm1BN_yO-iog&amp;ust=1430057991105272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22ff"/>
                </a:solidFill>
                <a:latin typeface="Chiller"/>
              </a:rPr>
              <a:t>MACBETH SCHEDULE</a:t>
            </a:r>
            <a:endParaRPr b="0" lang="en-US" sz="75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3a3bf0"/>
                </a:solidFill>
                <a:uFillTx/>
                <a:latin typeface="Peeps"/>
              </a:rPr>
              <a:t>ACT i: </a:t>
            </a:r>
            <a:r>
              <a:rPr b="1" lang="en-US" sz="2900" spc="-1" strike="noStrike">
                <a:solidFill>
                  <a:srgbClr val="3a3bf0"/>
                </a:solidFill>
                <a:latin typeface="Peep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Together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3a3bf0"/>
                </a:solidFill>
                <a:uFillTx/>
                <a:latin typeface="Peeps"/>
              </a:rPr>
              <a:t>ACT ii: </a:t>
            </a:r>
            <a:r>
              <a:rPr b="1" lang="en-US" sz="2900" spc="-1" strike="noStrike">
                <a:solidFill>
                  <a:srgbClr val="3a3bf0"/>
                </a:solidFill>
                <a:latin typeface="Peep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Small group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*</a:t>
            </a:r>
            <a:r>
              <a:rPr b="0" i="1" lang="en-US" sz="25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Act I-II Quiz &amp; Journal Entr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3a3bf0"/>
                </a:solidFill>
                <a:uFillTx/>
                <a:latin typeface="Peeps"/>
              </a:rPr>
              <a:t>ACT iii:</a:t>
            </a:r>
            <a:r>
              <a:rPr b="1" lang="en-US" sz="2900" spc="-1" strike="noStrike" u="sng">
                <a:solidFill>
                  <a:srgbClr val="ffff00"/>
                </a:solidFill>
                <a:uFillTx/>
                <a:latin typeface="Peep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Listen to recor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3a3bf0"/>
                </a:solidFill>
                <a:uFillTx/>
                <a:latin typeface="Peeps"/>
              </a:rPr>
              <a:t>ACT iv: </a:t>
            </a:r>
            <a:r>
              <a:rPr b="0" lang="en-US" sz="2900" spc="-1" strike="noStrike">
                <a:solidFill>
                  <a:srgbClr val="3a3bf0"/>
                </a:solidFill>
                <a:latin typeface="Adobe Heiti Std R"/>
                <a:ea typeface="Adobe Heiti Std R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Comic book </a:t>
            </a:r>
            <a:r>
              <a:rPr b="0" lang="en-US" sz="24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(*&amp; partially summariz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3a3bf0"/>
                </a:solidFill>
                <a:uFillTx/>
                <a:latin typeface="Peeps"/>
              </a:rPr>
              <a:t>ACT v:</a:t>
            </a:r>
            <a:r>
              <a:rPr b="1" lang="en-US" sz="2900" spc="-1" strike="noStrike" u="sng">
                <a:solidFill>
                  <a:srgbClr val="ffff00"/>
                </a:solidFill>
                <a:uFillTx/>
                <a:latin typeface="Peep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 Perform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*Act III-V </a:t>
            </a:r>
            <a:r>
              <a:rPr b="0" i="1" lang="en-US" sz="25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Journal Ent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7" descr="https://s-media-cache-ak0.pinimg.com/236x/be/44/05/be44050808cf889d0f2d0dad8a7c58b8.jpg"/>
          <p:cNvPicPr/>
          <p:nvPr/>
        </p:nvPicPr>
        <p:blipFill>
          <a:blip r:embed="rId1"/>
          <a:stretch/>
        </p:blipFill>
        <p:spPr>
          <a:xfrm>
            <a:off x="6629400" y="1828800"/>
            <a:ext cx="2247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Print"/>
              </a:rPr>
              <a:t>The Life of Bill: Language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4920" y="15235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The only thing that is different from modern time is the </a:t>
            </a:r>
            <a:r>
              <a:rPr b="1" lang="en-US" sz="2800" spc="-1" strike="noStrike" u="sng">
                <a:solidFill>
                  <a:srgbClr val="64ecff"/>
                </a:solidFill>
                <a:uFillTx/>
                <a:latin typeface="Chalkboard"/>
              </a:rPr>
              <a:t>WORD ORDER </a:t>
            </a: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in which the characters speak. For 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1"/>
          <p:cNvSpPr/>
          <p:nvPr/>
        </p:nvSpPr>
        <p:spPr>
          <a:xfrm>
            <a:off x="2590920" y="2257560"/>
            <a:ext cx="6172200" cy="34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4ecff"/>
                </a:solidFill>
                <a:latin typeface="Chalkboard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buClr>
                <a:srgbClr val="64ecff"/>
              </a:buClr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64ecff"/>
                </a:solidFill>
                <a:uFillTx/>
                <a:latin typeface="Chalkboard"/>
                <a:ea typeface="ＭＳ Ｐゴシック"/>
              </a:rPr>
              <a:t>YODA</a:t>
            </a:r>
            <a:r>
              <a:rPr b="1" lang="en-US" sz="2700" spc="-1" strike="noStrike">
                <a:solidFill>
                  <a:srgbClr val="64ecff"/>
                </a:solidFill>
                <a:latin typeface="Chalkboard"/>
                <a:ea typeface="ＭＳ Ｐゴシック"/>
              </a:rPr>
              <a:t>:  </a:t>
            </a:r>
            <a:r>
              <a:rPr b="1" lang="en-US" sz="2700" spc="-1" strike="noStrike">
                <a:solidFill>
                  <a:srgbClr val="64ecff"/>
                </a:solidFill>
                <a:latin typeface="Arial"/>
                <a:ea typeface="ＭＳ Ｐゴシック"/>
              </a:rPr>
              <a:t>“Size matters not.  Look at me. Judge me by size, do you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buClr>
                <a:srgbClr val="64ecff"/>
              </a:buClr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4ecff"/>
                </a:solidFill>
                <a:latin typeface="Arial"/>
                <a:ea typeface="ＭＳ Ｐゴシック"/>
              </a:rPr>
              <a:t> </a:t>
            </a:r>
            <a:r>
              <a:rPr b="1" lang="en-US" sz="2700" spc="-1" strike="noStrike" u="sng">
                <a:solidFill>
                  <a:srgbClr val="64ecff"/>
                </a:solidFill>
                <a:uFillTx/>
                <a:latin typeface="Arial"/>
                <a:ea typeface="ＭＳ Ｐゴシック"/>
              </a:rPr>
              <a:t>TRANSLATION</a:t>
            </a:r>
            <a:r>
              <a:rPr b="1" lang="en-US" sz="2700" spc="-1" strike="noStrike">
                <a:solidFill>
                  <a:srgbClr val="64ecff"/>
                </a:solidFill>
                <a:latin typeface="Arial"/>
                <a:ea typeface="ＭＳ Ｐゴシック"/>
              </a:rPr>
              <a:t>: “Size doesn’t matter.  Do you judge me by siz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Rectangle 2"/>
          <p:cNvGrpSpPr/>
          <p:nvPr/>
        </p:nvGrpSpPr>
        <p:grpSpPr>
          <a:xfrm>
            <a:off x="285840" y="5851440"/>
            <a:ext cx="8645400" cy="1013040"/>
            <a:chOff x="285840" y="5851440"/>
            <a:chExt cx="8645400" cy="1013040"/>
          </a:xfrm>
        </p:grpSpPr>
        <p:pic>
          <p:nvPicPr>
            <p:cNvPr id="640" name="Rectangle 2" descr=""/>
            <p:cNvPicPr/>
            <p:nvPr/>
          </p:nvPicPr>
          <p:blipFill>
            <a:blip r:embed="rId1"/>
            <a:stretch/>
          </p:blipFill>
          <p:spPr>
            <a:xfrm>
              <a:off x="285840" y="5851440"/>
              <a:ext cx="864540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380880" y="5943600"/>
              <a:ext cx="84582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halkboard"/>
                </a:rPr>
                <a:t>DON’T STRESS…WE will work on this specifically before we start reading!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AutoShape 9"/>
          <p:cNvSpPr/>
          <p:nvPr/>
        </p:nvSpPr>
        <p:spPr>
          <a:xfrm>
            <a:off x="13824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1"/>
          <p:cNvSpPr/>
          <p:nvPr/>
        </p:nvSpPr>
        <p:spPr>
          <a:xfrm>
            <a:off x="29052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3"/>
          <p:cNvSpPr/>
          <p:nvPr/>
        </p:nvSpPr>
        <p:spPr>
          <a:xfrm>
            <a:off x="44280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5" descr="Image result for yoda"/>
          <p:cNvPicPr/>
          <p:nvPr/>
        </p:nvPicPr>
        <p:blipFill>
          <a:blip r:embed="rId2"/>
          <a:stretch/>
        </p:blipFill>
        <p:spPr>
          <a:xfrm>
            <a:off x="1305000" y="30193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Segoe Print"/>
              </a:rPr>
              <a:t>The Globe Theater: </a:t>
            </a:r>
            <a:endParaRPr b="0" lang="en-US" sz="55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647" name="Picture 10" descr="http://elizabethan-theater.wikispaces.com/file/view/Globe_Theatre.jpg/213447138/554x465/Globe_Theatre.jpg"/>
          <p:cNvPicPr/>
          <p:nvPr/>
        </p:nvPicPr>
        <p:blipFill>
          <a:blip r:embed="rId1"/>
          <a:stretch/>
        </p:blipFill>
        <p:spPr>
          <a:xfrm>
            <a:off x="1676520" y="2085840"/>
            <a:ext cx="5645160" cy="4010040"/>
          </a:xfrm>
          <a:prstGeom prst="rect">
            <a:avLst/>
          </a:prstGeom>
          <a:ln w="0">
            <a:noFill/>
          </a:ln>
        </p:spPr>
      </p:pic>
      <p:grpSp>
        <p:nvGrpSpPr>
          <p:cNvPr id="648" name="TextBox 3"/>
          <p:cNvGrpSpPr/>
          <p:nvPr/>
        </p:nvGrpSpPr>
        <p:grpSpPr>
          <a:xfrm>
            <a:off x="7223040" y="139680"/>
            <a:ext cx="1762200" cy="950760"/>
            <a:chOff x="7223040" y="139680"/>
            <a:chExt cx="1762200" cy="950760"/>
          </a:xfrm>
        </p:grpSpPr>
        <p:pic>
          <p:nvPicPr>
            <p:cNvPr id="649" name="TextBox 3" descr=""/>
            <p:cNvPicPr/>
            <p:nvPr/>
          </p:nvPicPr>
          <p:blipFill>
            <a:blip r:embed="rId2"/>
            <a:stretch/>
          </p:blipFill>
          <p:spPr>
            <a:xfrm>
              <a:off x="7223040" y="139680"/>
              <a:ext cx="176220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7315200" y="228600"/>
              <a:ext cx="157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G. 4 IN PACK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Segoe Print"/>
              </a:rPr>
              <a:t>The Globe Theater: History</a:t>
            </a:r>
            <a:endParaRPr b="0" lang="en-US" sz="4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04920" y="1828440"/>
            <a:ext cx="5639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924120" indent="-235080">
              <a:lnSpc>
                <a:spcPct val="90000"/>
              </a:lnSpc>
              <a:spcBef>
                <a:spcPts val="57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halkboard"/>
              </a:rPr>
              <a:t>1576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300" spc="-1" strike="noStrike">
                <a:solidFill>
                  <a:srgbClr val="ffffff"/>
                </a:solidFill>
                <a:latin typeface="Chalkboard"/>
              </a:rPr>
              <a:t> Known as </a:t>
            </a: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300" spc="-1" strike="noStrike">
                <a:solidFill>
                  <a:srgbClr val="ffff00"/>
                </a:solidFill>
                <a:latin typeface="Chalkboard"/>
              </a:rPr>
              <a:t>The Theater</a:t>
            </a: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en-US" sz="2300" spc="-1" strike="noStrike">
                <a:solidFill>
                  <a:srgbClr val="ffff00"/>
                </a:solidFill>
                <a:latin typeface="Chalkboard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4" marL="1369800" indent="-167760">
              <a:lnSpc>
                <a:spcPct val="90000"/>
              </a:lnSpc>
              <a:spcBef>
                <a:spcPts val="575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Chalkboard"/>
              </a:rPr>
              <a:t>1594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i="1" lang="en-US" sz="2300" spc="-1" strike="noStrike">
                <a:solidFill>
                  <a:srgbClr val="ffffff"/>
                </a:solidFill>
                <a:latin typeface="Chalkboard"/>
              </a:rPr>
              <a:t> closed briefly for the </a:t>
            </a:r>
            <a:r>
              <a:rPr b="1" i="1" lang="en-US" sz="2300" spc="-1" strike="noStrike">
                <a:solidFill>
                  <a:srgbClr val="64ecff"/>
                </a:solidFill>
                <a:latin typeface="Chalkboard"/>
              </a:rPr>
              <a:t>plague… ugh</a:t>
            </a:r>
            <a:r>
              <a:rPr b="1" i="1" lang="en-US" sz="23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24120" indent="-235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4120" indent="-235080">
              <a:lnSpc>
                <a:spcPct val="90000"/>
              </a:lnSpc>
              <a:spcBef>
                <a:spcPts val="57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halkboard"/>
              </a:rPr>
              <a:t>1599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300" spc="-1" strike="noStrike">
                <a:solidFill>
                  <a:srgbClr val="ffffff"/>
                </a:solidFill>
                <a:latin typeface="Chalkboard"/>
              </a:rPr>
              <a:t> Tore down and drug across the Thames river after a legal dispu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24120" indent="-235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4120" indent="-235080">
              <a:lnSpc>
                <a:spcPct val="90000"/>
              </a:lnSpc>
              <a:spcBef>
                <a:spcPts val="57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halkboard"/>
              </a:rPr>
              <a:t>1613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300" spc="-1" strike="noStrike">
                <a:solidFill>
                  <a:srgbClr val="ffffff"/>
                </a:solidFill>
                <a:latin typeface="Chalkboard"/>
              </a:rPr>
              <a:t> Burnt down from a fire started by a canon shot during a </a:t>
            </a:r>
            <a:r>
              <a:rPr b="1" i="1" lang="en-US" sz="2300" spc="-1" strike="noStrike">
                <a:solidFill>
                  <a:srgbClr val="ffff00"/>
                </a:solidFill>
                <a:latin typeface="Chalkboard"/>
              </a:rPr>
              <a:t>Henry VIII</a:t>
            </a:r>
            <a:r>
              <a:rPr b="1" lang="en-US" sz="2300" spc="-1" strike="noStrike">
                <a:solidFill>
                  <a:srgbClr val="ffff00"/>
                </a:solidFill>
                <a:latin typeface="Chalkboard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Chalkboard"/>
              </a:rPr>
              <a:t>performan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Picture 6" descr="Image result for globe theater"/>
          <p:cNvPicPr/>
          <p:nvPr/>
        </p:nvPicPr>
        <p:blipFill>
          <a:blip r:embed="rId1"/>
          <a:stretch/>
        </p:blipFill>
        <p:spPr>
          <a:xfrm>
            <a:off x="5543640" y="1447920"/>
            <a:ext cx="2838240" cy="23857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https://www.crowdedcomics.com/sites/default/files/styles/view_cartoon_with_caption/public/captions/56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13400" y="4041720"/>
            <a:ext cx="286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175680" y="1828440"/>
            <a:ext cx="84344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55600">
              <a:lnSpc>
                <a:spcPct val="100000"/>
              </a:lnSpc>
              <a:spcBef>
                <a:spcPts val="624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1642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 Officially closed by Puritan regi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100000"/>
              </a:lnSpc>
              <a:spcBef>
                <a:spcPts val="624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*Overall:  Run predominately by Shakespear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s group the </a:t>
            </a:r>
            <a:r>
              <a:rPr b="1" lang="en-US" sz="2500" spc="-1" strike="noStrike">
                <a:solidFill>
                  <a:srgbClr val="ffff00"/>
                </a:solidFill>
                <a:latin typeface="Chalkboard"/>
              </a:rPr>
              <a:t>Lord Chamberlain</a:t>
            </a: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en-US" sz="2500" spc="-1" strike="noStrike">
                <a:solidFill>
                  <a:srgbClr val="ffff00"/>
                </a:solidFill>
                <a:latin typeface="Chalkboard"/>
              </a:rPr>
              <a:t>s Men Compan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Segoe Print"/>
              </a:rPr>
              <a:t>The Globe Theater: History</a:t>
            </a:r>
            <a:endParaRPr b="0" lang="en-US" sz="4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32868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0" descr="Image result for globe theater"/>
          <p:cNvPicPr/>
          <p:nvPr/>
        </p:nvPicPr>
        <p:blipFill>
          <a:blip r:embed="rId1"/>
          <a:stretch/>
        </p:blipFill>
        <p:spPr>
          <a:xfrm>
            <a:off x="5029200" y="3733920"/>
            <a:ext cx="3662280" cy="2514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2" descr="http://static.guim.co.uk/sys-images/Guardian/Pix/pixies/2009/9/13/1252877474183/The-First-Globe-Theatre-o-001.jpg"/>
          <p:cNvPicPr/>
          <p:nvPr/>
        </p:nvPicPr>
        <p:blipFill>
          <a:blip r:embed="rId2"/>
          <a:stretch/>
        </p:blipFill>
        <p:spPr>
          <a:xfrm>
            <a:off x="380880" y="3733920"/>
            <a:ext cx="4200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28240" y="1447560"/>
            <a:ext cx="5489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47760" indent="-2264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halkboard"/>
              </a:rPr>
              <a:t>Open octagon, 3 stories high,  100 ft. in dia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22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7760" indent="-2264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halkboard"/>
              </a:rPr>
              <a:t>Fits </a:t>
            </a:r>
            <a:r>
              <a:rPr b="1" lang="en-US" sz="2400" spc="-1" strike="noStrike">
                <a:solidFill>
                  <a:srgbClr val="ffff00"/>
                </a:solidFill>
                <a:latin typeface="Chalkboard"/>
              </a:rPr>
              <a:t>3,000 </a:t>
            </a:r>
            <a:r>
              <a:rPr b="1" lang="en-US" sz="2400" spc="-1" strike="noStrike">
                <a:solidFill>
                  <a:srgbClr val="ffffff"/>
                </a:solidFill>
                <a:latin typeface="Chalkboard"/>
              </a:rPr>
              <a:t>spect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22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7760" indent="-2264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halkboard"/>
              </a:rPr>
              <a:t>Microcosm of Lon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9040" indent="-2264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833760" indent="-212040">
              <a:lnSpc>
                <a:spcPct val="100000"/>
              </a:lnSpc>
              <a:spcBef>
                <a:spcPts val="57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64ecff"/>
                </a:solidFill>
                <a:uFillTx/>
                <a:latin typeface="Chalkboard"/>
              </a:rPr>
              <a:t>Pit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 (1 pence) Groundlings/Peasants; standing room only, fruit and nuts sol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833760" indent="-212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833760" indent="-212040">
              <a:lnSpc>
                <a:spcPct val="100000"/>
              </a:lnSpc>
              <a:spcBef>
                <a:spcPts val="57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64ecff"/>
                </a:solidFill>
                <a:uFillTx/>
                <a:latin typeface="Chalkboard"/>
              </a:rPr>
              <a:t>3 tiers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 (2 pence) upper class seat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833760" indent="-212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833760" indent="-212040">
              <a:lnSpc>
                <a:spcPct val="100000"/>
              </a:lnSpc>
              <a:spcBef>
                <a:spcPts val="57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4ecff"/>
                </a:solidFill>
                <a:latin typeface="Chalkboard"/>
              </a:rPr>
              <a:t>Behind stage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 royalty (so everyone could see them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Segoe Print"/>
              </a:rPr>
              <a:t>The Globe Theater: Construction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663" name="Picture 5" descr="Image result for globe theater inside"/>
          <p:cNvPicPr/>
          <p:nvPr/>
        </p:nvPicPr>
        <p:blipFill>
          <a:blip r:embed="rId1"/>
          <a:stretch/>
        </p:blipFill>
        <p:spPr>
          <a:xfrm>
            <a:off x="5791320" y="4343400"/>
            <a:ext cx="2862000" cy="21337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7" descr="Image result for globe theater inside"/>
          <p:cNvPicPr/>
          <p:nvPr/>
        </p:nvPicPr>
        <p:blipFill>
          <a:blip r:embed="rId2"/>
          <a:stretch/>
        </p:blipFill>
        <p:spPr>
          <a:xfrm>
            <a:off x="5848200" y="1600200"/>
            <a:ext cx="28386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-152280" y="19051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964440" indent="-245160">
              <a:lnSpc>
                <a:spcPct val="80000"/>
              </a:lnSpc>
              <a:spcBef>
                <a:spcPts val="624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Chalkboard"/>
              </a:rPr>
              <a:t>No real scenery</a:t>
            </a: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1429200" indent="-174960">
              <a:lnSpc>
                <a:spcPct val="80000"/>
              </a:lnSpc>
              <a:spcBef>
                <a:spcPts val="624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audience goes off of exaggerated language and move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64440" indent="-24516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964440" indent="-245160">
              <a:lnSpc>
                <a:spcPct val="80000"/>
              </a:lnSpc>
              <a:spcBef>
                <a:spcPts val="624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ecff"/>
                </a:solidFill>
                <a:latin typeface="Chalkboard"/>
              </a:rPr>
              <a:t>SPECIAL EFFECTS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1429200" indent="-174960">
              <a:lnSpc>
                <a:spcPct val="80000"/>
              </a:lnSpc>
              <a:spcBef>
                <a:spcPts val="624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Trap doors, balcony entrances, rope riggings, etc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1429200" indent="-174960">
              <a:lnSpc>
                <a:spcPct val="80000"/>
              </a:lnSpc>
              <a:spcBef>
                <a:spcPts val="624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Fireworks (</a:t>
            </a:r>
            <a:r>
              <a:rPr b="1" lang="en-US" sz="2500" spc="-1" strike="noStrike">
                <a:solidFill>
                  <a:srgbClr val="ffff00"/>
                </a:solidFill>
                <a:latin typeface="Chalkboard"/>
              </a:rPr>
              <a:t>lightning</a:t>
            </a: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), rolled canon balls (</a:t>
            </a:r>
            <a:r>
              <a:rPr b="1" lang="en-US" sz="2500" spc="-1" strike="noStrike">
                <a:solidFill>
                  <a:srgbClr val="ffff00"/>
                </a:solidFill>
                <a:latin typeface="Chalkboard"/>
              </a:rPr>
              <a:t>thunder</a:t>
            </a: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227960" indent="-226800">
              <a:lnSpc>
                <a:spcPct val="80000"/>
              </a:lnSpc>
              <a:spcBef>
                <a:spcPts val="326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227960" indent="-226800">
              <a:lnSpc>
                <a:spcPct val="80000"/>
              </a:lnSpc>
              <a:spcBef>
                <a:spcPts val="275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3" marL="1227960" indent="-226800">
              <a:lnSpc>
                <a:spcPct val="80000"/>
              </a:lnSpc>
              <a:spcBef>
                <a:spcPts val="275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3" marL="1227960" indent="-226800">
              <a:lnSpc>
                <a:spcPct val="80000"/>
              </a:lnSpc>
              <a:spcBef>
                <a:spcPts val="275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4" marL="1429200" indent="-174960">
              <a:lnSpc>
                <a:spcPct val="80000"/>
              </a:lnSpc>
              <a:spcBef>
                <a:spcPts val="275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Segoe Print"/>
              </a:rPr>
              <a:t>The Globe Theater: Construction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667" name="Picture 7" descr="https://s-media-cache-ak0.pinimg.com/236x/de/51/ca/de51ca7c1aea3aef1df292cd6f9a4933.jpg"/>
          <p:cNvPicPr/>
          <p:nvPr/>
        </p:nvPicPr>
        <p:blipFill>
          <a:blip r:embed="rId1"/>
          <a:stretch/>
        </p:blipFill>
        <p:spPr>
          <a:xfrm>
            <a:off x="5029200" y="2133720"/>
            <a:ext cx="3505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4419360" y="236232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49800" indent="-245520">
              <a:lnSpc>
                <a:spcPct val="90000"/>
              </a:lnSpc>
              <a:spcBef>
                <a:spcPts val="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Plays performed during the day for lighting  (2-5pm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lnSpc>
                <a:spcPct val="90000"/>
              </a:lnSpc>
              <a:spcBef>
                <a:spcPts val="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Actors were ONLY men. </a:t>
            </a:r>
            <a:r>
              <a:rPr b="1" lang="en-US" sz="2500" spc="-1" strike="noStrike">
                <a:solidFill>
                  <a:srgbClr val="ffff00"/>
                </a:solidFill>
                <a:latin typeface="Chalkboard"/>
              </a:rPr>
              <a:t>Young boys </a:t>
            </a:r>
            <a:r>
              <a:rPr b="1" lang="en-US" sz="2500" spc="-1" strike="noStrike">
                <a:solidFill>
                  <a:srgbClr val="ffffff"/>
                </a:solidFill>
                <a:latin typeface="Chalkboard"/>
              </a:rPr>
              <a:t>played the roles of wome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151280" indent="-212760">
              <a:lnSpc>
                <a:spcPct val="90000"/>
              </a:lnSpc>
              <a:spcBef>
                <a:spcPts val="624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1339920" indent="-164160">
              <a:lnSpc>
                <a:spcPct val="90000"/>
              </a:lnSpc>
              <a:spcBef>
                <a:spcPts val="624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Segoe Print"/>
              </a:rPr>
              <a:t>The Globe Theater: Plays</a:t>
            </a:r>
            <a:endParaRPr b="0" lang="en-US" sz="4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0" name="AutoShape 5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7"/>
          <p:cNvSpPr/>
          <p:nvPr/>
        </p:nvSpPr>
        <p:spPr>
          <a:xfrm>
            <a:off x="32868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48096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1"/>
          <p:cNvSpPr/>
          <p:nvPr/>
        </p:nvSpPr>
        <p:spPr>
          <a:xfrm>
            <a:off x="63324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3"/>
          <p:cNvSpPr/>
          <p:nvPr/>
        </p:nvSpPr>
        <p:spPr>
          <a:xfrm>
            <a:off x="785880" y="4269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15" descr="Image result for globe theater, male actors"/>
          <p:cNvPicPr/>
          <p:nvPr/>
        </p:nvPicPr>
        <p:blipFill>
          <a:blip r:embed="rId1"/>
          <a:stretch/>
        </p:blipFill>
        <p:spPr>
          <a:xfrm>
            <a:off x="1022400" y="1523880"/>
            <a:ext cx="3397320" cy="23623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Image result for lord chamberlain's men company"/>
          <p:cNvPicPr/>
          <p:nvPr/>
        </p:nvPicPr>
        <p:blipFill>
          <a:blip r:embed="rId2"/>
          <a:stretch/>
        </p:blipFill>
        <p:spPr>
          <a:xfrm>
            <a:off x="1011240" y="4103640"/>
            <a:ext cx="34084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Rough Draft"/>
              </a:rPr>
              <a:t>Shakespeare’s</a:t>
            </a:r>
            <a:br>
              <a:rPr sz="7000"/>
            </a:br>
            <a:r>
              <a:rPr b="0" lang="en-US" sz="7000" spc="-1" strike="noStrike">
                <a:solidFill>
                  <a:srgbClr val="000000"/>
                </a:solidFill>
                <a:latin typeface="Rough Draft"/>
              </a:rPr>
              <a:t>Macbeth </a:t>
            </a:r>
            <a:br>
              <a:rPr sz="7000"/>
            </a:br>
            <a:endParaRPr b="0" lang="en-US" sz="7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AutoShape 7"/>
          <p:cNvSpPr/>
          <p:nvPr/>
        </p:nvSpPr>
        <p:spPr>
          <a:xfrm>
            <a:off x="13824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29052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5" descr="Image result for macbeth dagger"/>
          <p:cNvPicPr/>
          <p:nvPr/>
        </p:nvPicPr>
        <p:blipFill>
          <a:blip r:embed="rId1"/>
          <a:srcRect l="0" t="0" r="11056" b="0"/>
          <a:stretch/>
        </p:blipFill>
        <p:spPr>
          <a:xfrm>
            <a:off x="1447920" y="2819520"/>
            <a:ext cx="2982960" cy="3581280"/>
          </a:xfrm>
          <a:prstGeom prst="rect">
            <a:avLst/>
          </a:prstGeom>
          <a:ln w="0">
            <a:noFill/>
          </a:ln>
        </p:spPr>
      </p:pic>
      <p:grpSp>
        <p:nvGrpSpPr>
          <p:cNvPr id="681" name="TextBox 5"/>
          <p:cNvGrpSpPr/>
          <p:nvPr/>
        </p:nvGrpSpPr>
        <p:grpSpPr>
          <a:xfrm>
            <a:off x="7338960" y="158760"/>
            <a:ext cx="1579680" cy="1023840"/>
            <a:chOff x="7338960" y="158760"/>
            <a:chExt cx="1579680" cy="1023840"/>
          </a:xfrm>
        </p:grpSpPr>
        <p:pic>
          <p:nvPicPr>
            <p:cNvPr id="682" name="TextBox 5" descr=""/>
            <p:cNvPicPr/>
            <p:nvPr/>
          </p:nvPicPr>
          <p:blipFill>
            <a:blip r:embed="rId2"/>
            <a:stretch/>
          </p:blipFill>
          <p:spPr>
            <a:xfrm>
              <a:off x="7338960" y="158760"/>
              <a:ext cx="15796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7467480" y="22860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rebuchet MS"/>
                  <a:ea typeface="ヒラギノ角ゴ Pro W3"/>
                </a:rPr>
                <a:t>PG. 5 IN PACK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Rough Draft"/>
              </a:rPr>
              <a:t>Macbeth: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Rough Draft"/>
              </a:rPr>
              <a:t>Writing Patronage</a:t>
            </a:r>
            <a:endParaRPr b="0" lang="en-US" sz="5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057040"/>
            <a:ext cx="8320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3bf0"/>
                </a:solidFill>
                <a:latin typeface="Chalkboard"/>
              </a:rPr>
              <a:t>THE PLAY WAS WRITTEN FOR </a:t>
            </a:r>
            <a:r>
              <a:rPr b="1" lang="en-US" sz="2800" spc="-1" strike="noStrike" u="sng">
                <a:solidFill>
                  <a:srgbClr val="3a3bf0"/>
                </a:solidFill>
                <a:uFillTx/>
                <a:latin typeface="Chalkboard"/>
              </a:rPr>
              <a:t>KING JAMES </a:t>
            </a:r>
            <a:r>
              <a:rPr b="1" lang="en-US" sz="2700" spc="-1" strike="noStrike" u="sng">
                <a:solidFill>
                  <a:srgbClr val="3a3bf0"/>
                </a:solidFill>
                <a:uFillTx/>
                <a:latin typeface="Chalkboard"/>
              </a:rPr>
              <a:t>I</a:t>
            </a:r>
            <a:r>
              <a:rPr b="1" lang="en-US" sz="2700" spc="-1" strike="noStrike">
                <a:solidFill>
                  <a:srgbClr val="3a3bf0"/>
                </a:solidFill>
                <a:latin typeface="Chalkboard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3505320" y="2746440"/>
            <a:ext cx="5486400" cy="29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4c4c4c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He was obsessed with </a:t>
            </a:r>
            <a:r>
              <a:rPr b="1" lang="en-US" sz="2100" spc="-1" strike="noStrike" u="sng">
                <a:solidFill>
                  <a:srgbClr val="ffff00"/>
                </a:solidFill>
                <a:uFillTx/>
                <a:latin typeface="Eras Bold ITC"/>
                <a:ea typeface="ヒラギノ角ゴ Pro W3"/>
              </a:rPr>
              <a:t>demonology</a:t>
            </a:r>
            <a:r>
              <a:rPr b="0" lang="en-US" sz="21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, the idea of magic and witch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lkboard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lkboard"/>
                <a:ea typeface="Times New Roman"/>
              </a:rPr>
              <a:t>(2) He </a:t>
            </a:r>
            <a:r>
              <a:rPr b="0" lang="en-US" sz="21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experienced the </a:t>
            </a:r>
            <a:r>
              <a:rPr b="1" lang="en-US" sz="2100" spc="-1" strike="noStrike" u="sng">
                <a:solidFill>
                  <a:srgbClr val="ffff00"/>
                </a:solidFill>
                <a:uFillTx/>
                <a:latin typeface="Eras Bold ITC"/>
                <a:ea typeface="ヒラギノ角ゴ Pro W3"/>
              </a:rPr>
              <a:t>Gun Powder Plot</a:t>
            </a:r>
            <a:r>
              <a:rPr b="0" lang="en-US" sz="2100" spc="-1" strike="noStrike">
                <a:solidFill>
                  <a:srgbClr val="ff0000"/>
                </a:solidFill>
                <a:latin typeface="Chalkboard"/>
                <a:ea typeface="ヒラギノ角ゴ Pro W3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 an assassination attemp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(3)</a:t>
            </a:r>
            <a:r>
              <a:rPr b="1" lang="en-US" sz="2100" spc="-1" strike="noStrike">
                <a:solidFill>
                  <a:srgbClr val="ffff00"/>
                </a:solidFill>
                <a:latin typeface="Eras Bold ITC"/>
                <a:ea typeface="ヒラギノ角ゴ Pro W3"/>
              </a:rPr>
              <a:t> </a:t>
            </a:r>
            <a:r>
              <a:rPr b="1" lang="en-US" sz="2100" spc="-1" strike="noStrike" u="sng">
                <a:solidFill>
                  <a:srgbClr val="ffff00"/>
                </a:solidFill>
                <a:uFillTx/>
                <a:latin typeface="Eras Bold ITC"/>
                <a:ea typeface="ヒラギノ角ゴ Pro W3"/>
              </a:rPr>
              <a:t>Banquo</a:t>
            </a:r>
            <a:r>
              <a:rPr b="1" lang="en-US" sz="2100" spc="-1" strike="noStrike">
                <a:solidFill>
                  <a:srgbClr val="ff0000"/>
                </a:solidFill>
                <a:latin typeface="Eras Bold ITC"/>
                <a:ea typeface="ヒラギノ角ゴ Pro W3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was written as a “good guy” since King James was his descendan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(4)  The play was short because he liked </a:t>
            </a:r>
            <a:r>
              <a:rPr b="1" lang="en-US" sz="2100" spc="-1" strike="noStrike" u="sng">
                <a:solidFill>
                  <a:srgbClr val="ffff00"/>
                </a:solidFill>
                <a:uFillTx/>
                <a:latin typeface="Eras Bold ITC"/>
                <a:ea typeface="ヒラギノ角ゴ Pro W3"/>
              </a:rPr>
              <a:t>short pl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7"/>
          <p:cNvSpPr/>
          <p:nvPr/>
        </p:nvSpPr>
        <p:spPr>
          <a:xfrm>
            <a:off x="13824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9"/>
          <p:cNvSpPr/>
          <p:nvPr/>
        </p:nvSpPr>
        <p:spPr>
          <a:xfrm>
            <a:off x="29052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11" descr="http://t2.gstatic.com/images?q=tbn:ANd9GcTgfDjakUsRI_92Bizql5jh9SiqfvV5osD3FMg_4dj6I1jz8gjU"/>
          <p:cNvPicPr/>
          <p:nvPr/>
        </p:nvPicPr>
        <p:blipFill>
          <a:blip r:embed="rId1"/>
          <a:stretch/>
        </p:blipFill>
        <p:spPr>
          <a:xfrm>
            <a:off x="1295280" y="2705040"/>
            <a:ext cx="20574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ugh Draft"/>
              </a:rPr>
              <a:t>Macbeth: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Rough Draft"/>
              </a:rPr>
              <a:t>The Curse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7621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halkboard"/>
              </a:rPr>
              <a:t>Supposedly, </a:t>
            </a:r>
            <a:r>
              <a:rPr b="1" lang="en-US" sz="2600" spc="-1" strike="noStrike">
                <a:solidFill>
                  <a:srgbClr val="3a3bf0"/>
                </a:solidFill>
                <a:latin typeface="Chalkboard"/>
              </a:rPr>
              <a:t>saying "Macbeth" inside a theater will bring bad luck </a:t>
            </a:r>
            <a:r>
              <a:rPr b="1" lang="en-US" sz="2600" spc="-1" strike="noStrike">
                <a:solidFill>
                  <a:srgbClr val="000000"/>
                </a:solidFill>
                <a:latin typeface="Chalkboard"/>
              </a:rPr>
              <a:t>to the play and anyone acting in it. 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People actually refer to the  play as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halkboard"/>
              </a:rPr>
              <a:t>The Scottish Play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”</a:t>
            </a:r>
            <a:r>
              <a:rPr b="1" lang="en-US" sz="2400" spc="-1" strike="noStrike">
                <a:solidFill>
                  <a:srgbClr val="ff0000"/>
                </a:solidFill>
                <a:latin typeface="Chalkboar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or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halkboard"/>
              </a:rPr>
              <a:t>MacB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”</a:t>
            </a:r>
            <a:r>
              <a:rPr b="1" lang="en-US" sz="2400" spc="-1" strike="noStrike">
                <a:solidFill>
                  <a:srgbClr val="ff0000"/>
                </a:solidFill>
                <a:latin typeface="Chalkboar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when at the theater</a:t>
            </a:r>
            <a:r>
              <a:rPr b="1" lang="en-US" sz="26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6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2" name="Picture 8" descr="https://encrypted-tbn0.gstatic.com/images?q=tbn:ANd9GcSzmDSEtr0MOyyamLGpcf7gmoBqpPOIop02gxGIFbfdwLlUXxoc"/>
          <p:cNvPicPr/>
          <p:nvPr/>
        </p:nvPicPr>
        <p:blipFill>
          <a:blip r:embed="rId1"/>
          <a:stretch/>
        </p:blipFill>
        <p:spPr>
          <a:xfrm>
            <a:off x="3733920" y="4157640"/>
            <a:ext cx="5029200" cy="2395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9" descr="Image result for macbeth quotes"/>
          <p:cNvPicPr/>
          <p:nvPr/>
        </p:nvPicPr>
        <p:blipFill>
          <a:blip r:embed="rId2"/>
          <a:stretch/>
        </p:blipFill>
        <p:spPr>
          <a:xfrm>
            <a:off x="857160" y="40384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28600" y="34596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egoe Script"/>
              </a:rPr>
              <a:t>Shakespeare &amp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egoe Script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Segoe Script"/>
              </a:rPr>
              <a:t>The Renaiss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8" descr="Image result for macbeth quotes"/>
          <p:cNvPicPr/>
          <p:nvPr/>
        </p:nvPicPr>
        <p:blipFill>
          <a:blip r:embed="rId1"/>
          <a:stretch/>
        </p:blipFill>
        <p:spPr>
          <a:xfrm>
            <a:off x="1676520" y="2135160"/>
            <a:ext cx="62323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4"/>
          <p:cNvSpPr/>
          <p:nvPr/>
        </p:nvSpPr>
        <p:spPr>
          <a:xfrm>
            <a:off x="1066680" y="1986120"/>
            <a:ext cx="807732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001b"/>
                </a:solidFill>
                <a:uFillTx/>
                <a:latin typeface="Chiller"/>
                <a:ea typeface="ヒラギノ角ゴ Pro W3"/>
              </a:rPr>
              <a:t>WHY IT STARTED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Used an </a:t>
            </a:r>
            <a:r>
              <a:rPr b="1" lang="en-US" sz="2200" spc="-1" strike="noStrike">
                <a:solidFill>
                  <a:srgbClr val="0022ff"/>
                </a:solidFill>
                <a:latin typeface="Chalkboard"/>
                <a:ea typeface="ヒラギノ角ゴ Pro W3"/>
              </a:rPr>
              <a:t>authentic 17th century black-magic ritual</a:t>
            </a:r>
            <a:r>
              <a:rPr b="1" lang="en-US" sz="2200" spc="-1" strike="noStrike">
                <a:solidFill>
                  <a:srgbClr val="0022ff"/>
                </a:solidFill>
                <a:latin typeface="Lucida Grande"/>
                <a:ea typeface="ヒラギノ角ゴ Pro W3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for the opening scene of Macbeth's Act IV </a:t>
            </a:r>
            <a:r>
              <a:rPr b="1" lang="en-US" sz="22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a sort of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how-to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”</a:t>
            </a:r>
            <a:r>
              <a:rPr b="1" lang="en-US" sz="22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 for budding witches.)  That means he provided his audience with step-by-step instructions of how to create a real spell!  </a:t>
            </a:r>
            <a:r>
              <a:rPr b="1" lang="en-US" sz="2200" spc="-1" strike="noStrike">
                <a:solidFill>
                  <a:srgbClr val="0022ff"/>
                </a:solidFill>
                <a:latin typeface="Chalkboard"/>
                <a:ea typeface="ヒラギノ角ゴ Pro W3"/>
              </a:rPr>
              <a:t>As punishment, the witches supposedly cursed the play and its actors</a:t>
            </a:r>
            <a:r>
              <a:rPr b="1" lang="en-US" sz="22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533520" y="83808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ugh Draft"/>
                <a:ea typeface="ヒラギノ角ゴ Pro W3"/>
              </a:rPr>
              <a:t>Macbeth: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Rough Draft"/>
                <a:ea typeface="ヒラギノ角ゴ Pro W3"/>
              </a:rPr>
              <a:t>The Cur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5" descr="Image result for macbeth curse"/>
          <p:cNvPicPr/>
          <p:nvPr/>
        </p:nvPicPr>
        <p:blipFill>
          <a:blip r:embed="rId1"/>
          <a:stretch/>
        </p:blipFill>
        <p:spPr>
          <a:xfrm>
            <a:off x="2905200" y="4662360"/>
            <a:ext cx="3647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457200" y="17521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48320" indent="-262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2ff"/>
                </a:solidFill>
                <a:latin typeface="Chalkboard"/>
              </a:rPr>
              <a:t>Exit the theater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48320" indent="-262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2ff"/>
                </a:solidFill>
                <a:latin typeface="Chalkboard"/>
              </a:rPr>
              <a:t>Spin around three times saying a profan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48320" indent="-262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2ff"/>
                </a:solidFill>
                <a:latin typeface="Chalkboard"/>
              </a:rPr>
              <a:t>And then ask for permission to return inside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48320" indent="-26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1b"/>
                </a:solidFill>
                <a:latin typeface="Chalkboard"/>
              </a:rPr>
              <a:t>                        </a:t>
            </a:r>
            <a:r>
              <a:rPr b="1" lang="en-US" sz="2400" spc="-1" strike="noStrike">
                <a:solidFill>
                  <a:srgbClr val="ff001b"/>
                </a:solidFill>
                <a:latin typeface="Chalkboard"/>
              </a:rPr>
              <a:t>*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48320" indent="-26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4) Some believe that you can repeat the words </a:t>
            </a:r>
            <a:r>
              <a:rPr b="1" lang="en-US" sz="2400" spc="-1" strike="noStrike">
                <a:solidFill>
                  <a:srgbClr val="0022ff"/>
                </a:solidFill>
                <a:latin typeface="Chalkboard"/>
              </a:rPr>
              <a:t>"Thrice around the circle bound, Evil sink into the ground,"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ough Draft"/>
              </a:rPr>
              <a:t>Macbeth: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Rough Draft"/>
              </a:rPr>
              <a:t>REVERSE The Curse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AutoShape 5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7"/>
          <p:cNvSpPr/>
          <p:nvPr/>
        </p:nvSpPr>
        <p:spPr>
          <a:xfrm>
            <a:off x="32868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9"/>
          <p:cNvSpPr/>
          <p:nvPr/>
        </p:nvSpPr>
        <p:spPr>
          <a:xfrm>
            <a:off x="48096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1" descr="http://www.intrepidtheatre.org/wp-content/uploads/2014/01/mackers-keep-calm.jpg"/>
          <p:cNvPicPr/>
          <p:nvPr/>
        </p:nvPicPr>
        <p:blipFill>
          <a:blip r:embed="rId1"/>
          <a:stretch/>
        </p:blipFill>
        <p:spPr>
          <a:xfrm>
            <a:off x="5867280" y="2571840"/>
            <a:ext cx="28958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2ff"/>
                </a:solidFill>
                <a:latin typeface="Chiller"/>
              </a:rPr>
              <a:t>THINGS TO CONSIDER</a:t>
            </a:r>
            <a:endParaRPr b="0" lang="en-US" sz="8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2ff"/>
                </a:solidFill>
                <a:latin typeface="Times New Roman"/>
              </a:rPr>
              <a:t>Do you believe in </a:t>
            </a:r>
            <a:r>
              <a:rPr b="1" lang="en-US" sz="3400" spc="-1" strike="noStrike">
                <a:solidFill>
                  <a:srgbClr val="64ecff"/>
                </a:solidFill>
                <a:latin typeface="Rockwell Extra Bold"/>
              </a:rPr>
              <a:t>prophecies</a:t>
            </a:r>
            <a:r>
              <a:rPr b="1" lang="en-US" sz="3400" spc="-1" strike="noStrike">
                <a:solidFill>
                  <a:srgbClr val="0022ff"/>
                </a:solidFill>
                <a:latin typeface="Times New Roman"/>
              </a:rPr>
              <a:t> or predicting the future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762120" y="388620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2ff"/>
                </a:solidFill>
                <a:latin typeface="Times New Roman"/>
                <a:ea typeface="ＭＳ Ｐゴシック"/>
              </a:rPr>
              <a:t>If y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2ff"/>
                </a:solidFill>
                <a:latin typeface="Times New Roman"/>
                <a:ea typeface="ＭＳ Ｐゴシック"/>
              </a:rPr>
              <a:t>would someone’s prediction about you </a:t>
            </a:r>
            <a:r>
              <a:rPr b="1" lang="en-US" sz="3400" spc="-1" strike="noStrike">
                <a:solidFill>
                  <a:srgbClr val="64ecff"/>
                </a:solidFill>
                <a:latin typeface="Rockwell Extra Bold"/>
                <a:ea typeface="ＭＳ Ｐゴシック"/>
              </a:rPr>
              <a:t>make you change</a:t>
            </a:r>
            <a:r>
              <a:rPr b="1" lang="en-US" sz="3400" spc="-1" strike="noStrike">
                <a:solidFill>
                  <a:srgbClr val="0022ff"/>
                </a:solidFill>
                <a:latin typeface="Times New Roman"/>
                <a:ea typeface="ＭＳ Ｐゴシック"/>
              </a:rPr>
              <a:t> what you’re doing now or how you currently live your life?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6" descr="http://t1.gstatic.com/images?q=tbn:ANd9GcT8X0OMcbXA6lFAtQG47Pq5OqK40se31rqJ5VDDsXKZYjf7LPXOwg"/>
          <p:cNvPicPr/>
          <p:nvPr/>
        </p:nvPicPr>
        <p:blipFill>
          <a:blip r:embed="rId1"/>
          <a:stretch/>
        </p:blipFill>
        <p:spPr>
          <a:xfrm>
            <a:off x="6248520" y="1905120"/>
            <a:ext cx="2657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Rough Draft"/>
              </a:rPr>
              <a:t>Macbeth: Setting</a:t>
            </a:r>
            <a:endParaRPr b="0" lang="en-US" sz="5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halkboard"/>
              </a:rPr>
              <a:t>*Scotland</a:t>
            </a: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4c4c4c"/>
              </a:buClr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a3bf0"/>
                </a:solidFill>
                <a:latin typeface="Chalkboard"/>
              </a:rPr>
              <a:t>Inverness</a:t>
            </a:r>
            <a:r>
              <a:rPr b="0" lang="en-US" sz="2500" spc="-1" strike="noStrike">
                <a:solidFill>
                  <a:srgbClr val="000000"/>
                </a:solidFill>
                <a:latin typeface="Chalkboard"/>
              </a:rPr>
              <a:t> (</a:t>
            </a:r>
            <a:r>
              <a:rPr b="0" i="1" lang="en-US" sz="2500" spc="-1" strike="noStrike">
                <a:solidFill>
                  <a:srgbClr val="000000"/>
                </a:solidFill>
                <a:latin typeface="Chalkboard"/>
              </a:rPr>
              <a:t>Macbeth</a:t>
            </a:r>
            <a:r>
              <a:rPr b="0" i="1" lang="en-US" sz="25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i="1" lang="en-US" sz="2500" spc="-1" strike="noStrike">
                <a:solidFill>
                  <a:srgbClr val="000000"/>
                </a:solidFill>
                <a:latin typeface="Chalkboard"/>
              </a:rPr>
              <a:t>s Castle near Dunsinane and Birnahm Woods</a:t>
            </a:r>
            <a:r>
              <a:rPr b="0" lang="en-US" sz="2500" spc="-1" strike="noStrike">
                <a:solidFill>
                  <a:srgbClr val="000000"/>
                </a:solidFill>
                <a:latin typeface="Chalkboard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4c4c4c"/>
              </a:buClr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a3bf0"/>
                </a:solidFill>
                <a:latin typeface="Chalkboard"/>
              </a:rPr>
              <a:t>Fife</a:t>
            </a:r>
            <a:r>
              <a:rPr b="0" lang="en-US" sz="2500" spc="-1" strike="noStrike">
                <a:solidFill>
                  <a:srgbClr val="000000"/>
                </a:solidFill>
                <a:latin typeface="Chalkboard"/>
              </a:rPr>
              <a:t> (</a:t>
            </a:r>
            <a:r>
              <a:rPr b="0" i="1" lang="en-US" sz="2500" spc="-1" strike="noStrike">
                <a:solidFill>
                  <a:srgbClr val="000000"/>
                </a:solidFill>
                <a:latin typeface="Chalkboard"/>
              </a:rPr>
              <a:t>MacDuff</a:t>
            </a:r>
            <a:r>
              <a:rPr b="0" i="1" lang="en-US" sz="25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i="1" lang="en-US" sz="2500" spc="-1" strike="noStrike">
                <a:solidFill>
                  <a:srgbClr val="000000"/>
                </a:solidFill>
                <a:latin typeface="Chalkboard"/>
              </a:rPr>
              <a:t>s Castle</a:t>
            </a:r>
            <a:r>
              <a:rPr b="0" lang="en-US" sz="2500" spc="-1" strike="noStrike">
                <a:solidFill>
                  <a:srgbClr val="000000"/>
                </a:solidFill>
                <a:latin typeface="Chalkboard"/>
              </a:rPr>
              <a:t>)</a:t>
            </a:r>
            <a:r>
              <a:rPr b="0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4c4c4c"/>
              </a:buClr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a3bf0"/>
                </a:solidFill>
                <a:latin typeface="Chalkboard"/>
              </a:rPr>
              <a:t>Cawdor &amp; Glamis</a:t>
            </a:r>
            <a:r>
              <a:rPr b="0" lang="en-US" sz="2500" spc="-1" strike="noStrike">
                <a:solidFill>
                  <a:srgbClr val="000000"/>
                </a:solidFill>
                <a:latin typeface="Chalkboard"/>
              </a:rPr>
              <a:t> (</a:t>
            </a:r>
            <a:r>
              <a:rPr b="0" i="1" lang="en-US" sz="2500" spc="-1" strike="noStrike">
                <a:solidFill>
                  <a:srgbClr val="000000"/>
                </a:solidFill>
                <a:latin typeface="Chalkboard"/>
              </a:rPr>
              <a:t>territories in Scotland</a:t>
            </a:r>
            <a:r>
              <a:rPr b="0" lang="en-US" sz="2500" spc="-1" strike="noStrike">
                <a:solidFill>
                  <a:srgbClr val="000000"/>
                </a:solidFill>
                <a:latin typeface="Chalkboard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halkboard"/>
              </a:rPr>
              <a:t>England </a:t>
            </a:r>
            <a:endParaRPr b="0" lang="en-US" sz="3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halkboard"/>
              </a:rPr>
              <a:t>Ireland </a:t>
            </a:r>
            <a:endParaRPr b="0" lang="en-US" sz="3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halkboard"/>
              </a:rPr>
              <a:t>Norway</a:t>
            </a:r>
            <a:r>
              <a:rPr b="0" lang="en-US" sz="3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09" name="Picture 8" descr="http://t3.gstatic.com/images?q=tbn:ANd9GcQp7GdFVlVcxpWVaKcfeanS-x2c08JGNrPsfxC7iZEjM0neD6MU2w"/>
          <p:cNvPicPr/>
          <p:nvPr/>
        </p:nvPicPr>
        <p:blipFill>
          <a:blip r:embed="rId1"/>
          <a:stretch/>
        </p:blipFill>
        <p:spPr>
          <a:xfrm>
            <a:off x="4724280" y="41911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Rough Draft"/>
              </a:rPr>
              <a:t>Macbeth: Setting</a:t>
            </a:r>
            <a:endParaRPr b="0" lang="en-US" sz="5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11" name="Picture 6" descr="http://t1.gstatic.com/images?q=tbn:ANd9GcSRY36Y8_RavtcUL1tju7oJdn6LWqQD0IMCjW_e6HPb9jC7KBbbfA"/>
          <p:cNvPicPr/>
          <p:nvPr/>
        </p:nvPicPr>
        <p:blipFill>
          <a:blip r:embed="rId1"/>
          <a:srcRect l="0" t="0" r="0" b="4577"/>
          <a:stretch/>
        </p:blipFill>
        <p:spPr>
          <a:xfrm>
            <a:off x="274680" y="1447920"/>
            <a:ext cx="4670280" cy="4767120"/>
          </a:xfrm>
          <a:prstGeom prst="rect">
            <a:avLst/>
          </a:prstGeom>
          <a:ln w="0">
            <a:noFill/>
          </a:ln>
        </p:spPr>
      </p:pic>
      <p:sp>
        <p:nvSpPr>
          <p:cNvPr id="712" name="Line 7"/>
          <p:cNvSpPr/>
          <p:nvPr/>
        </p:nvSpPr>
        <p:spPr>
          <a:xfrm flipH="1" flipV="1">
            <a:off x="3580920" y="3189240"/>
            <a:ext cx="2590920" cy="316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7"/>
          <p:cNvSpPr/>
          <p:nvPr/>
        </p:nvSpPr>
        <p:spPr>
          <a:xfrm>
            <a:off x="13824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9"/>
          <p:cNvSpPr/>
          <p:nvPr/>
        </p:nvSpPr>
        <p:spPr>
          <a:xfrm>
            <a:off x="29052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1"/>
          <p:cNvSpPr/>
          <p:nvPr/>
        </p:nvSpPr>
        <p:spPr>
          <a:xfrm>
            <a:off x="138240" y="-1279440"/>
            <a:ext cx="2895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3"/>
          <p:cNvSpPr/>
          <p:nvPr/>
        </p:nvSpPr>
        <p:spPr>
          <a:xfrm>
            <a:off x="290520" y="-1127160"/>
            <a:ext cx="2895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15" descr="http://t2.gstatic.com/images?q=tbn:ANd9GcSIALG6o4hT4uE0mi_qni85Xd_XH3RPkVWzIUb7BRBFxZwc0f7a"/>
          <p:cNvPicPr/>
          <p:nvPr/>
        </p:nvPicPr>
        <p:blipFill>
          <a:blip r:embed="rId2"/>
          <a:stretch/>
        </p:blipFill>
        <p:spPr>
          <a:xfrm>
            <a:off x="5465880" y="2514600"/>
            <a:ext cx="3449520" cy="2743200"/>
          </a:xfrm>
          <a:prstGeom prst="rect">
            <a:avLst/>
          </a:prstGeom>
          <a:ln w="0">
            <a:noFill/>
          </a:ln>
        </p:spPr>
      </p:pic>
      <p:sp>
        <p:nvSpPr>
          <p:cNvPr id="718" name="5-Point Star 6"/>
          <p:cNvSpPr/>
          <p:nvPr/>
        </p:nvSpPr>
        <p:spPr>
          <a:xfrm>
            <a:off x="3198960" y="2133720"/>
            <a:ext cx="610920" cy="533160"/>
          </a:xfrm>
          <a:custGeom>
            <a:avLst/>
            <a:gdLst/>
            <a:ahLst/>
            <a:rect l="l" t="t" r="r" b="b"/>
            <a:pathLst>
              <a:path w="611187" h="533400">
                <a:moveTo>
                  <a:pt x="1" y="203740"/>
                </a:moveTo>
                <a:lnTo>
                  <a:pt x="233454" y="203742"/>
                </a:lnTo>
                <a:lnTo>
                  <a:pt x="305594" y="0"/>
                </a:lnTo>
                <a:lnTo>
                  <a:pt x="377733" y="203742"/>
                </a:lnTo>
                <a:lnTo>
                  <a:pt x="611186" y="203740"/>
                </a:lnTo>
                <a:lnTo>
                  <a:pt x="422318" y="329658"/>
                </a:lnTo>
                <a:lnTo>
                  <a:pt x="494460" y="533399"/>
                </a:lnTo>
                <a:lnTo>
                  <a:pt x="305594" y="407479"/>
                </a:lnTo>
                <a:lnTo>
                  <a:pt x="116727" y="533399"/>
                </a:lnTo>
                <a:lnTo>
                  <a:pt x="188869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7"/>
          <p:cNvSpPr/>
          <p:nvPr/>
        </p:nvSpPr>
        <p:spPr>
          <a:xfrm>
            <a:off x="3505320" y="1905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Macbe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95440" y="304920"/>
            <a:ext cx="8029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Rough Draft"/>
              </a:rPr>
              <a:t>Macbeth: WHO’S WHO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7"/>
          <p:cNvSpPr/>
          <p:nvPr/>
        </p:nvSpPr>
        <p:spPr>
          <a:xfrm>
            <a:off x="13824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9"/>
          <p:cNvSpPr/>
          <p:nvPr/>
        </p:nvSpPr>
        <p:spPr>
          <a:xfrm>
            <a:off x="29052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1"/>
          <p:cNvSpPr/>
          <p:nvPr/>
        </p:nvSpPr>
        <p:spPr>
          <a:xfrm>
            <a:off x="138240" y="-1279440"/>
            <a:ext cx="2895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TextBox 1"/>
          <p:cNvGrpSpPr/>
          <p:nvPr/>
        </p:nvGrpSpPr>
        <p:grpSpPr>
          <a:xfrm>
            <a:off x="2614680" y="1884240"/>
            <a:ext cx="3537000" cy="878040"/>
            <a:chOff x="2614680" y="1884240"/>
            <a:chExt cx="3537000" cy="878040"/>
          </a:xfrm>
        </p:grpSpPr>
        <p:pic>
          <p:nvPicPr>
            <p:cNvPr id="725" name="TextBox 1" descr=""/>
            <p:cNvPicPr/>
            <p:nvPr/>
          </p:nvPicPr>
          <p:blipFill>
            <a:blip r:embed="rId1"/>
            <a:stretch/>
          </p:blipFill>
          <p:spPr>
            <a:xfrm>
              <a:off x="2614680" y="1884240"/>
              <a:ext cx="3537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2666880" y="1976400"/>
              <a:ext cx="34290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SCOTLAND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Box 12"/>
          <p:cNvSpPr/>
          <p:nvPr/>
        </p:nvSpPr>
        <p:spPr>
          <a:xfrm>
            <a:off x="228600" y="27003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ING DUN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3"/>
          <p:cNvSpPr/>
          <p:nvPr/>
        </p:nvSpPr>
        <p:spPr>
          <a:xfrm>
            <a:off x="457200" y="3589200"/>
            <a:ext cx="1828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lcolm &amp; Donalb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3a3bf0"/>
                </a:solidFill>
                <a:latin typeface="Arial"/>
                <a:ea typeface="ＭＳ Ｐゴシック"/>
              </a:rPr>
              <a:t>(Malcolm is the eldes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4"/>
          <p:cNvSpPr/>
          <p:nvPr/>
        </p:nvSpPr>
        <p:spPr>
          <a:xfrm>
            <a:off x="3429000" y="2666880"/>
            <a:ext cx="2743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ommander &amp;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e of Glami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6"/>
          <p:cNvSpPr/>
          <p:nvPr/>
        </p:nvSpPr>
        <p:spPr>
          <a:xfrm>
            <a:off x="2209680" y="4608360"/>
            <a:ext cx="3505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N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ommander under Macbeth; Macbeth’s BFF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TextBox 17"/>
          <p:cNvGrpSpPr/>
          <p:nvPr/>
        </p:nvGrpSpPr>
        <p:grpSpPr>
          <a:xfrm>
            <a:off x="6377040" y="4937040"/>
            <a:ext cx="2747880" cy="1878120"/>
            <a:chOff x="6377040" y="4937040"/>
            <a:chExt cx="2747880" cy="1878120"/>
          </a:xfrm>
        </p:grpSpPr>
        <p:pic>
          <p:nvPicPr>
            <p:cNvPr id="732" name="TextBox 17" descr=""/>
            <p:cNvPicPr/>
            <p:nvPr/>
          </p:nvPicPr>
          <p:blipFill>
            <a:blip r:embed="rId2"/>
            <a:stretch/>
          </p:blipFill>
          <p:spPr>
            <a:xfrm>
              <a:off x="6377040" y="4937040"/>
              <a:ext cx="274788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6504120" y="4997520"/>
              <a:ext cx="256356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T WAR WITH NORWAY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acdonwal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King Swen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Straight Connector 3"/>
          <p:cNvSpPr/>
          <p:nvPr/>
        </p:nvSpPr>
        <p:spPr>
          <a:xfrm>
            <a:off x="1219320" y="3089160"/>
            <a:ext cx="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21"/>
          <p:cNvSpPr/>
          <p:nvPr/>
        </p:nvSpPr>
        <p:spPr>
          <a:xfrm>
            <a:off x="3657600" y="5715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3"/>
          <p:cNvSpPr/>
          <p:nvPr/>
        </p:nvSpPr>
        <p:spPr>
          <a:xfrm>
            <a:off x="2971800" y="6167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e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6095880" y="267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DY MAC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26"/>
          <p:cNvSpPr/>
          <p:nvPr/>
        </p:nvSpPr>
        <p:spPr>
          <a:xfrm>
            <a:off x="5638680" y="289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103640" y="3774960"/>
            <a:ext cx="2843280" cy="414000"/>
          </a:xfrm>
          <a:prstGeom prst="rect">
            <a:avLst/>
          </a:prstGeom>
          <a:gradFill rotWithShape="0">
            <a:gsLst>
              <a:gs pos="0">
                <a:srgbClr val="305bc4"/>
              </a:gs>
              <a:gs pos="100000">
                <a:srgbClr val="3f78ff"/>
              </a:gs>
            </a:gsLst>
            <a:lin ang="16200000"/>
          </a:gradFill>
          <a:ln w="9360">
            <a:solidFill>
              <a:srgbClr val="5582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*Thane = baron, lor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3" descr=""/>
          <p:cNvPicPr/>
          <p:nvPr/>
        </p:nvPicPr>
        <p:blipFill>
          <a:blip r:embed="rId2"/>
          <a:srcRect l="0" t="13543" r="62944" b="6250"/>
          <a:stretch/>
        </p:blipFill>
        <p:spPr>
          <a:xfrm>
            <a:off x="1295280" y="533520"/>
            <a:ext cx="4800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egoe Script"/>
              </a:rPr>
              <a:t>The Life of Bill 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09120" y="137124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~ April 23, 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564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- April 23, 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616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~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5" descr="William Shakespeare Infographic"/>
          <p:cNvPicPr/>
          <p:nvPr/>
        </p:nvPicPr>
        <p:blipFill>
          <a:blip r:embed="rId1"/>
          <a:stretch/>
        </p:blipFill>
        <p:spPr>
          <a:xfrm>
            <a:off x="2209680" y="2057400"/>
            <a:ext cx="47340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Segoe Print"/>
              </a:rPr>
              <a:t>The Life of Bill: Family</a:t>
            </a:r>
            <a:endParaRPr b="0" lang="en-US" sz="5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halkboard"/>
              </a:rPr>
              <a:t>PARENT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halkboard"/>
              </a:rPr>
              <a:t>Understood  all walks of life and social classes  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- Father was a glover and a leather merchant, mother was a land heiress, which put them in the working class,   but with benefits and respec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halkboard"/>
              </a:rPr>
              <a:t>FAMILY: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halkboar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Married </a:t>
            </a:r>
            <a:r>
              <a:rPr b="1" lang="en-US" sz="2600" spc="-1" strike="noStrike">
                <a:solidFill>
                  <a:srgbClr val="ffff00"/>
                </a:solidFill>
                <a:latin typeface="Chalkboard"/>
              </a:rPr>
              <a:t>Anne Hathaway 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in 1582. (He was 18 while she  was 26 and pregnan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3 kids: Susanna  &amp; twins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600" spc="-1" strike="noStrike">
                <a:solidFill>
                  <a:srgbClr val="ffffff"/>
                </a:solidFill>
                <a:latin typeface="Chalkboard"/>
              </a:rPr>
              <a:t>Hamnet and Judit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Segoe Print"/>
              </a:rPr>
              <a:t>The Life of Bill: Career</a:t>
            </a:r>
            <a:endParaRPr b="0" lang="en-US" sz="5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85440" y="1905120"/>
            <a:ext cx="6172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CTING CARE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3352680" y="2666880"/>
            <a:ext cx="53341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SzPct val="85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1594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 actor, writer, and a managing partner for the   </a:t>
            </a:r>
            <a:r>
              <a:rPr b="1" lang="en-US" sz="2400" spc="-1" strike="noStrike">
                <a:solidFill>
                  <a:srgbClr val="ffff00"/>
                </a:solidFill>
                <a:latin typeface="Chalkboard"/>
                <a:ea typeface="ヒラギノ角ゴ Pro W3"/>
              </a:rPr>
              <a:t>Lord Chamberlain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  <a:ea typeface="ヒラギノ角ゴ Pro W3"/>
              </a:rPr>
              <a:t>’</a:t>
            </a:r>
            <a:r>
              <a:rPr b="1" lang="en-US" sz="2400" spc="-1" strike="noStrike">
                <a:solidFill>
                  <a:srgbClr val="ffff00"/>
                </a:solidFill>
                <a:latin typeface="Chalkboard"/>
                <a:ea typeface="ヒラギノ角ゴ Pro W3"/>
              </a:rPr>
              <a:t>s Men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  <a:ea typeface="ヒラギノ角ゴ Pro W3"/>
              </a:rPr>
              <a:t>’</a:t>
            </a:r>
            <a:r>
              <a:rPr b="1" lang="en-US" sz="2400" spc="-1" strike="noStrike">
                <a:solidFill>
                  <a:srgbClr val="ffff00"/>
                </a:solidFill>
                <a:latin typeface="Chalkboard"/>
                <a:ea typeface="ヒラギノ角ゴ Pro W3"/>
              </a:rPr>
              <a:t>s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13824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8"/>
          <p:cNvSpPr/>
          <p:nvPr/>
        </p:nvSpPr>
        <p:spPr>
          <a:xfrm>
            <a:off x="29052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0"/>
          <p:cNvSpPr/>
          <p:nvPr/>
        </p:nvSpPr>
        <p:spPr>
          <a:xfrm>
            <a:off x="44280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12" descr="http://imgc.allpostersimages.com/images/P-473-488-90/71/7115/3QRV100Z/posters/shakespeare-big-willy-funny-pos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36520" y="2666880"/>
            <a:ext cx="252108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Segoe Print"/>
              </a:rPr>
              <a:t>The Life of Bill: Works</a:t>
            </a:r>
            <a:endParaRPr b="0" lang="en-US" sz="5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33160" y="16765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halkboard"/>
              </a:rPr>
              <a:t>Wrote </a:t>
            </a:r>
            <a:r>
              <a:rPr b="1" lang="en-US" sz="2900" spc="-1" strike="noStrike">
                <a:solidFill>
                  <a:srgbClr val="ffff00"/>
                </a:solidFill>
                <a:latin typeface="Chalkboard"/>
              </a:rPr>
              <a:t>154 </a:t>
            </a:r>
            <a:r>
              <a:rPr b="1" lang="en-US" sz="2900" spc="-1" strike="noStrike">
                <a:solidFill>
                  <a:srgbClr val="ffffff"/>
                </a:solidFill>
                <a:latin typeface="Chalkboard"/>
              </a:rPr>
              <a:t>sonnets, </a:t>
            </a:r>
            <a:r>
              <a:rPr b="1" lang="en-US" sz="2900" spc="-1" strike="noStrike">
                <a:solidFill>
                  <a:srgbClr val="ffff00"/>
                </a:solidFill>
                <a:latin typeface="Chalkboard"/>
              </a:rPr>
              <a:t>2</a:t>
            </a:r>
            <a:r>
              <a:rPr b="1" lang="en-US" sz="2900" spc="-1" strike="noStrike">
                <a:solidFill>
                  <a:srgbClr val="ffffff"/>
                </a:solidFill>
                <a:latin typeface="Chalkboard"/>
              </a:rPr>
              <a:t> epic narratives, and  </a:t>
            </a:r>
            <a:r>
              <a:rPr b="1" lang="en-US" sz="2900" spc="-1" strike="noStrike">
                <a:solidFill>
                  <a:srgbClr val="ffff00"/>
                </a:solidFill>
                <a:latin typeface="Chalkboard"/>
              </a:rPr>
              <a:t>38</a:t>
            </a:r>
            <a:r>
              <a:rPr b="1" lang="en-US" sz="2900" spc="-1" strike="noStrike">
                <a:solidFill>
                  <a:srgbClr val="ffffff"/>
                </a:solidFill>
                <a:latin typeface="Chalkboard"/>
              </a:rPr>
              <a:t> plays including</a:t>
            </a:r>
            <a:r>
              <a:rPr b="0" lang="en-US" sz="2900" spc="-1" strike="noStrike">
                <a:solidFill>
                  <a:srgbClr val="ffffff"/>
                </a:solidFill>
                <a:latin typeface="Chalkboard"/>
              </a:rPr>
              <a:t>:</a:t>
            </a:r>
            <a:r>
              <a:rPr b="0" lang="en-US" sz="35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380880" y="2809800"/>
            <a:ext cx="5181840" cy="34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4c4c4c"/>
              </a:buClr>
              <a:buSzPct val="85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4ecff"/>
                </a:solidFill>
                <a:uFillTx/>
                <a:latin typeface="Chalkboard"/>
                <a:ea typeface="ヒラギノ角ゴ Pro W3"/>
              </a:rPr>
              <a:t>Comedies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: 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halkboard"/>
                <a:ea typeface="ヒラギノ角ゴ Pro W3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 Night, Measure for Measure, Taming of the Sh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4c4c4c"/>
              </a:buClr>
              <a:buSzPct val="85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4ecff"/>
                </a:solidFill>
                <a:uFillTx/>
                <a:latin typeface="Chalkboard"/>
                <a:ea typeface="ヒラギノ角ゴ Pro W3"/>
              </a:rPr>
              <a:t>Histories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: Henry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s and Richard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4c4c4c"/>
              </a:buClr>
              <a:buSzPct val="85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4ecff"/>
                </a:solidFill>
                <a:uFillTx/>
                <a:latin typeface="Chalkboard"/>
                <a:ea typeface="ヒラギノ角ゴ Pro W3"/>
              </a:rPr>
              <a:t>Tragedies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: Hamlet, King Lear, Ot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4c4c4c"/>
              </a:buClr>
              <a:buSzPct val="85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4ecff"/>
                </a:solidFill>
                <a:uFillTx/>
                <a:latin typeface="Chalkboard"/>
                <a:ea typeface="ヒラギノ角ゴ Pro W3"/>
              </a:rPr>
              <a:t>Late Romances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  <a:ea typeface="ヒラギノ角ゴ Pro W3"/>
              </a:rPr>
              <a:t>: Temp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Image result for shakespeare funny"/>
          <p:cNvPicPr/>
          <p:nvPr/>
        </p:nvPicPr>
        <p:blipFill>
          <a:blip r:embed="rId1"/>
          <a:stretch/>
        </p:blipFill>
        <p:spPr>
          <a:xfrm>
            <a:off x="5791320" y="2886120"/>
            <a:ext cx="2900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Segoe Print"/>
              </a:rPr>
              <a:t>The Life of Bill: Language</a:t>
            </a:r>
            <a:endParaRPr b="0" lang="en-US" sz="5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33520" y="14479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halkboard"/>
              </a:rPr>
              <a:t>Known for prose, witty poetry, and blank vers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3048120" y="2590920"/>
            <a:ext cx="586728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ヒラギノ角ゴ Pro W3"/>
              </a:rPr>
              <a:t>No dictionaries or grammar books = learned from other educated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ヒラギノ角ゴ Pro W3"/>
              </a:rPr>
              <a:t>Credited with introducing </a:t>
            </a:r>
            <a:r>
              <a:rPr b="1" lang="en-US" sz="2400" spc="-1" strike="noStrike">
                <a:solidFill>
                  <a:srgbClr val="ffff00"/>
                </a:solidFill>
                <a:latin typeface="Chalkboard"/>
                <a:ea typeface="ヒラギノ角ゴ Pro W3"/>
              </a:rPr>
              <a:t>3,000+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ヒラギノ角ゴ Pro W3"/>
              </a:rPr>
              <a:t> words/phrases into the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Rectangle 1"/>
          <p:cNvGrpSpPr/>
          <p:nvPr/>
        </p:nvGrpSpPr>
        <p:grpSpPr>
          <a:xfrm>
            <a:off x="365040" y="5224320"/>
            <a:ext cx="8413920" cy="1486080"/>
            <a:chOff x="365040" y="5224320"/>
            <a:chExt cx="8413920" cy="1486080"/>
          </a:xfrm>
        </p:grpSpPr>
        <p:pic>
          <p:nvPicPr>
            <p:cNvPr id="627" name="Rectangle 1" descr=""/>
            <p:cNvPicPr/>
            <p:nvPr/>
          </p:nvPicPr>
          <p:blipFill>
            <a:blip r:embed="rId1"/>
            <a:stretch/>
          </p:blipFill>
          <p:spPr>
            <a:xfrm>
              <a:off x="365040" y="5224320"/>
              <a:ext cx="84139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457200" y="5316480"/>
              <a:ext cx="822960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halkboard"/>
                  <a:ea typeface="ヒラギノ角ゴ Pro W3"/>
                </a:rPr>
                <a:t>EXAMPLES:  Bedroom, dawn, gossip, gloomy, fashionable, bump, cold-blooded</a:t>
              </a:r>
              <a:r>
                <a:rPr b="1" lang="en-US" sz="2000" spc="-1" strike="noStrike">
                  <a:solidFill>
                    <a:srgbClr val="000000"/>
                  </a:solidFill>
                  <a:latin typeface="Chalkboard"/>
                  <a:ea typeface="ヒラギノ角ゴ Pro W3"/>
                </a:rPr>
                <a:t>,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halkboard"/>
                  <a:ea typeface="ヒラギノ角ゴ Pro W3"/>
                </a:rPr>
                <a:t>Break the ice, breathed his last, dog will have his day, good-riddance, sent packing, seen better days, heart of go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>
                <a:lnSpc>
                  <a:spcPct val="90000"/>
                </a:lnSpc>
                <a:spcBef>
                  <a:spcPts val="499"/>
                </a:spcBef>
                <a:buClr>
                  <a:srgbClr val="4c4c4c"/>
                </a:buClr>
                <a:buFont typeface="Wingdings" charset="2"/>
                <a:buChar char="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" name="Picture 9" descr="https://summereng4u.files.wordpress.com/2011/07/1271172232-corriga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438280"/>
            <a:ext cx="298152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https://lwallenberg.files.wordpress.com/2012/01/shakespeare-quotes.jpg?w=457&amp;h=767"/>
          <p:cNvPicPr/>
          <p:nvPr/>
        </p:nvPicPr>
        <p:blipFill>
          <a:blip r:embed="rId1"/>
          <a:srcRect l="0" t="0" r="0" b="5060"/>
          <a:stretch/>
        </p:blipFill>
        <p:spPr>
          <a:xfrm>
            <a:off x="1066680" y="0"/>
            <a:ext cx="7236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Segoe Print"/>
              </a:rPr>
              <a:t>The Life of Bill: Language</a:t>
            </a:r>
            <a:endParaRPr b="0" lang="en-US" sz="5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halkboard"/>
              </a:rPr>
              <a:t>Only </a:t>
            </a:r>
            <a:r>
              <a:rPr b="1" lang="en-US" sz="2900" spc="-1" strike="noStrike">
                <a:solidFill>
                  <a:srgbClr val="ffff00"/>
                </a:solidFill>
                <a:latin typeface="Chalkboard"/>
              </a:rPr>
              <a:t>one </a:t>
            </a:r>
            <a:r>
              <a:rPr b="1" lang="en-US" sz="2900" spc="-1" strike="noStrike">
                <a:solidFill>
                  <a:srgbClr val="ffffff"/>
                </a:solidFill>
                <a:latin typeface="Chalkboard"/>
              </a:rPr>
              <a:t>generation from what we speak toda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halkboard"/>
              </a:rPr>
              <a:t>Reading Hints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382320">
              <a:lnSpc>
                <a:spcPct val="90000"/>
              </a:lnSpc>
              <a:spcBef>
                <a:spcPts val="624"/>
              </a:spcBef>
              <a:buClr>
                <a:srgbClr val="ccaf0a"/>
              </a:buClr>
              <a:buSzPct val="85000"/>
              <a:buFont typeface="Wingdings 2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ecff"/>
                </a:solidFill>
                <a:latin typeface="Chalkboard"/>
              </a:rPr>
              <a:t>Thee/Thou = you</a:t>
            </a:r>
            <a:r>
              <a:rPr b="1" lang="en-US" sz="2500" spc="-1" strike="noStrike">
                <a:solidFill>
                  <a:srgbClr val="64ecff"/>
                </a:solidFill>
                <a:latin typeface="Chalkboard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382320">
              <a:lnSpc>
                <a:spcPct val="90000"/>
              </a:lnSpc>
              <a:spcBef>
                <a:spcPts val="624"/>
              </a:spcBef>
              <a:buClr>
                <a:srgbClr val="ccaf0a"/>
              </a:buClr>
              <a:buSzPct val="85000"/>
              <a:buFont typeface="Wingdings 2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ecff"/>
                </a:solidFill>
                <a:latin typeface="Chalkboard"/>
              </a:rPr>
              <a:t>Thy/Thine = your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382320">
              <a:lnSpc>
                <a:spcPct val="90000"/>
              </a:lnSpc>
              <a:spcBef>
                <a:spcPts val="624"/>
              </a:spcBef>
              <a:buClr>
                <a:srgbClr val="ccaf0a"/>
              </a:buClr>
              <a:buSzPct val="85000"/>
              <a:buFont typeface="Wingdings 2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ecff"/>
                </a:solidFill>
                <a:latin typeface="Chalkboard"/>
              </a:rPr>
              <a:t>Art = Ar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382320">
              <a:lnSpc>
                <a:spcPct val="90000"/>
              </a:lnSpc>
              <a:spcBef>
                <a:spcPts val="624"/>
              </a:spcBef>
              <a:buClr>
                <a:srgbClr val="ccaf0a"/>
              </a:buClr>
              <a:buSzPct val="85000"/>
              <a:buFont typeface="Wingdings 2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ecff"/>
                </a:solidFill>
                <a:latin typeface="Chalkboard"/>
              </a:rPr>
              <a:t>T</a:t>
            </a:r>
            <a:r>
              <a:rPr b="1" lang="en-US" sz="2500" spc="-1" strike="noStrike">
                <a:solidFill>
                  <a:srgbClr val="64ecff"/>
                </a:solidFill>
                <a:latin typeface="Arial"/>
              </a:rPr>
              <a:t>’</a:t>
            </a:r>
            <a:r>
              <a:rPr b="1" lang="en-US" sz="2500" spc="-1" strike="noStrike">
                <a:solidFill>
                  <a:srgbClr val="64ecff"/>
                </a:solidFill>
                <a:latin typeface="Chalkboard"/>
              </a:rPr>
              <a:t>is = it 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382320">
              <a:lnSpc>
                <a:spcPct val="90000"/>
              </a:lnSpc>
              <a:spcBef>
                <a:spcPts val="624"/>
              </a:spcBef>
              <a:buClr>
                <a:srgbClr val="ccaf0a"/>
              </a:buClr>
              <a:buSzPct val="85000"/>
              <a:buFont typeface="Wingdings 2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ecff"/>
                </a:solidFill>
                <a:latin typeface="Chalkboard"/>
              </a:rPr>
              <a:t>Alas = unfortunate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1b"/>
                </a:solidFill>
                <a:latin typeface="Chalkboar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lnSpc>
                <a:spcPct val="90000"/>
              </a:lnSpc>
              <a:spcBef>
                <a:spcPts val="201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Rectangle 1"/>
          <p:cNvGrpSpPr/>
          <p:nvPr/>
        </p:nvGrpSpPr>
        <p:grpSpPr>
          <a:xfrm>
            <a:off x="5181480" y="2511360"/>
            <a:ext cx="3505320" cy="3669120"/>
            <a:chOff x="5181480" y="2511360"/>
            <a:chExt cx="3505320" cy="3669120"/>
          </a:xfrm>
        </p:grpSpPr>
        <p:pic>
          <p:nvPicPr>
            <p:cNvPr id="634" name="Rectangle 1" descr=""/>
            <p:cNvPicPr/>
            <p:nvPr/>
          </p:nvPicPr>
          <p:blipFill>
            <a:blip r:embed="rId1"/>
            <a:stretch/>
          </p:blipFill>
          <p:spPr>
            <a:xfrm>
              <a:off x="5181480" y="2511360"/>
              <a:ext cx="350532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5257800" y="2590920"/>
              <a:ext cx="3351240" cy="35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halkboard"/>
                </a:rPr>
                <a:t>OTHER HINT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e3e7de"/>
                  </a:solidFill>
                  <a:uFillTx/>
                  <a:latin typeface="Chalkboard"/>
                </a:rPr>
                <a:t>Don</a:t>
              </a:r>
              <a:r>
                <a:rPr b="1" lang="en-US" sz="2400" spc="-1" strike="noStrike" u="sng">
                  <a:solidFill>
                    <a:srgbClr val="e3e7de"/>
                  </a:solidFill>
                  <a:uFillTx/>
                  <a:latin typeface="Arial"/>
                </a:rPr>
                <a:t>’</a:t>
              </a:r>
              <a:r>
                <a:rPr b="1" lang="en-US" sz="2400" spc="-1" strike="noStrike" u="sng">
                  <a:solidFill>
                    <a:srgbClr val="e3e7de"/>
                  </a:solidFill>
                  <a:uFillTx/>
                  <a:latin typeface="Chalkboard"/>
                </a:rPr>
                <a:t>t pronounce the apostrophe</a:t>
              </a:r>
              <a:r>
                <a:rPr b="1" lang="en-US" sz="2400" spc="-1" strike="noStrike">
                  <a:solidFill>
                    <a:srgbClr val="e3e7de"/>
                  </a:solidFill>
                  <a:latin typeface="Chalkboar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t the end of words; apostrophes are for other vowels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Ex.   cat 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 t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 adage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=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cat i</a:t>
              </a:r>
              <a:r>
                <a:rPr b="0" lang="en-US" sz="2400" spc="-1" strike="noStrike">
                  <a:solidFill>
                    <a:srgbClr val="ffff00"/>
                  </a:solidFill>
                  <a:latin typeface="Chalkboard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 th</a:t>
              </a:r>
              <a:r>
                <a:rPr b="0" lang="en-US" sz="2400" spc="-1" strike="noStrike">
                  <a:solidFill>
                    <a:srgbClr val="ffff00"/>
                  </a:solidFill>
                  <a:latin typeface="Chalkboard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 ad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8:13:18Z</dcterms:created>
  <dc:creator>PSD</dc:creator>
  <dc:description/>
  <dc:language>en-US</dc:language>
  <cp:lastModifiedBy>Jones, Kylie</cp:lastModifiedBy>
  <dcterms:modified xsi:type="dcterms:W3CDTF">2016-04-11T02:33:14Z</dcterms:modified>
  <cp:revision>186</cp:revision>
  <dc:subject/>
  <dc:title>PowerPoint Presentation</dc:title>
</cp:coreProperties>
</file>